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AF5C-E2E3-4D7D-8B50-1A0437F9F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7784-32F9-41C6-A838-668D2333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28EA-D395-4D42-82EA-44D22305F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59D5-6085-4070-9986-F932EFF59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0999-E801-4440-9579-78EF6D6B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88C9-3A21-4464-984C-FB0DBA66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CFDA-FE6E-4C00-9BE4-373915E5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0898-2F83-4AFD-BC04-D9405124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5CC5-AC6A-4012-BDC5-0C922532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E675-F521-4A00-BEF9-6C7F5913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AC80-260C-40E5-B660-685A22A5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A22C-4A7F-4C51-AF6F-24898468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174B-7026-4E54-A464-F46A48227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1.bp.blogspot.com/-Q97K2NP_8JY/TufA6Vzax1I/AAAAAAAAAbs/kMrD9Uqh3jw/s1600/German+and+Dutch+imports+and+exports.png" TargetMode="External"/><Relationship Id="rId2" Type="http://schemas.openxmlformats.org/officeDocument/2006/relationships/hyperlink" Target="http://www.economywatch.com/world_economy/germany/export-import.html" TargetMode="External"/><Relationship Id="rId3" Type="http://schemas.openxmlformats.org/officeDocument/2006/relationships/hyperlink" Target="http://www.dw-world.de/dw/article/0,,15060887,00.html" TargetMode="External"/><Relationship Id="rId4" Type="http://schemas.openxmlformats.org/officeDocument/2006/relationships/hyperlink" Target="http://www.icons-land.com/images/products/VistaArrowIconsPreview1.jpg" TargetMode="External"/><Relationship Id="rId5" Type="http://schemas.openxmlformats.org/officeDocument/2006/relationships/hyperlink" Target="http://www.tradingeconomics.com/germany/exports" TargetMode="External"/><Relationship Id="rId6" Type="http://schemas.openxmlformats.org/officeDocument/2006/relationships/hyperlink" Target="http://farm2.staticflickr.com/1243/809322032_9509c03842.jpg" TargetMode="External"/><Relationship Id="rId7" Type="http://schemas.openxmlformats.org/officeDocument/2006/relationships/hyperlink" Target="http://www.1uptravel.com/flags/images/be-lgflag.gif" TargetMode="External"/><Relationship Id="rId8" Type="http://schemas.openxmlformats.org/officeDocument/2006/relationships/hyperlink" Target="http://www.33ff.com/flags/XL_flags/United-Kingdom_flag.gif" TargetMode="External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130120"/>
            <a:ext cx="8305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rman Imports and Exports </a:t>
            </a:r>
            <a:br>
              <a:rPr sz="4400"/>
            </a:b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lsea Gobour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didate Number: 001090-0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is not one of Germany’s import partn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Germany is the ____ largest economy in the worl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1.bp.blogspot.com/-Q97K2NP_8JY/TufA6Vzax1I/AAAAAAAAAbs/kMrD9Uqh3jw/s1600/German+and+Dutch+imports+and+exports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conomywatch.com/world_economy/germany/export-import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w-world.de/dw/article/0,,15060887,00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icons-land.com/images/products/VistaArrowIconsPreview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tradingeconomics.com/germany/ex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farm2.staticflickr.com/1243/809322032_9509c0384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1uptravel.com/flags/images/be-lgflag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33ff.com/flags/XL_flags/United-Kingdom_flag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midcoast.com/~martucci/flags/images/us-50hz*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flagspot.net/images/f/fr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jwsr.ucr.edu/archive/vol5/number3/krempel/krempel_print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india.diplo.de/contentblob/3298134/Galeriebild_gross/1646725/Exports_August_2011_inside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Danke!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utschlan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fifth largest economy in the worl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largest economy in the Euro-Z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s heavily on its exports to drive the econom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a strong network of trade relationships with the world and almost all the major trading countries in Europ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me the world's 3rd largest exporter in 201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me the world's 2nd largest exporter after China in 2011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Consumer Produ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239240" cy="4584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4920" y="6324480"/>
            <a:ext cx="82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utschland makes a lot of cars. They are second to Ch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Import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port is any good or service brought into one country from another country in a legitimate fashion, typically for use in trade. Import goods or services are provided to domestic consumers by foreign producer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5486400"/>
            <a:ext cx="2724120" cy="552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276720" y="5486400"/>
            <a:ext cx="2724120" cy="552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095880" y="5486400"/>
            <a:ext cx="272412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ary Im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or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cal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hin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il and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3276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 Par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267080"/>
            <a:ext cx="82296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g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ed St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391520" y="1371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1447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391520" y="2895480"/>
            <a:ext cx="1752480" cy="138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7391520" y="4267080"/>
            <a:ext cx="1752480" cy="1336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7391520" y="5562720"/>
            <a:ext cx="1752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utschland Imports &amp; Export Char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86800" cy="4362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676520" y="617220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regard The Yellow and Red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Export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s or services are provided to foreign consumers by domestic producers. It is a good that is sent to another country for sa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6095880"/>
            <a:ext cx="2733840" cy="457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048120" y="6095880"/>
            <a:ext cx="2733480" cy="457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867280" y="6095880"/>
            <a:ext cx="27338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ary Ex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43600" y="1219320"/>
            <a:ext cx="3200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hin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c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fa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odstu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67280" y="4952880"/>
            <a:ext cx="2590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al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3886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ort Par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81080" cy="14637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1981080" cy="1511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1981080" cy="1568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0" y="5283360"/>
            <a:ext cx="198108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New In Deutschland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man imports and exports hit record leve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man exports soared to a record-high in March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lue of German exports jumped from 7.3 percent to 98.2 billion euros ($141.1 billion) in M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as the highest level of exports since 1950 and a monthly increase of 3.1 per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d to 2010, 2011 exports gained 15.8 percent, while imports advanced 16.9 perc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ation's current account surplus (a measure of all trade including services) widened to 18.8 billion euros in March from 11.9 billion in Februa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year German government expects economic growth of 2.6 percent following a record expansion of 3.6 percent in 2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Mercedes assembly line"/>
          <p:cNvPicPr/>
          <p:nvPr/>
        </p:nvPicPr>
        <p:blipFill>
          <a:blip r:embed="rId1"/>
          <a:stretch/>
        </p:blipFill>
        <p:spPr>
          <a:xfrm>
            <a:off x="6172200" y="990720"/>
            <a:ext cx="243828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4:38:40Z</dcterms:created>
  <dc:creator>SCSadmin</dc:creator>
  <dc:description/>
  <dc:language>en-US</dc:language>
  <cp:lastModifiedBy>SCSadmin</cp:lastModifiedBy>
  <dcterms:modified xsi:type="dcterms:W3CDTF">2012-03-29T14:08:57Z</dcterms:modified>
  <cp:revision>8</cp:revision>
  <dc:subject/>
  <dc:title>German Imports and Exports </dc:title>
</cp:coreProperties>
</file>